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B97-1F72-4108-BCAA-2FC9C2E8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C23-628E-4399-B55B-90CC1BE5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9B5-FFC1-4B38-B611-C27A6600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CD5-0C00-41F3-B153-26746894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B45-6C9D-48BC-BF20-8F86DB9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ECA-462D-4CCD-9B7E-8E13812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AA6-0E4C-4DDB-99CB-3E101D5B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9AE-C638-4FD5-AEFD-B1F1610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1C4-5B44-49FB-AD29-6A73CA1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2A0-66C7-43FB-B20D-583F754B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44F-CF51-463D-9FE8-AAF077E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C59-5F65-49C3-BBC4-420BFF8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BE90-C82A-425F-8589-B89D568C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aplikáci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j Morav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008080"/>
            <a:ext cx="866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tvorený študentmi na štýl wiki so študijnými materiálmi z matfy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stória skúšok, história minuloročných písomiek projektov a zadan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editovania testov a prerábaní do interaktívnej formy s automatickým hodnot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nášky a iné materiály k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idea projektu je zhotoviť jedno veľké úložisko dát, ktoré pomôžu študentovi s daným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00808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vigácia vo viacerých vrst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navigácia sekcia s predmetmi, poradňa, fór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sekcie jednotlivých predmeto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teriály od vyučujúceho, vypraované poznámky od nadšencov..., história skúšok, písomiek, projektov... + hotové vypracovania alebo možnosť vypracovan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ánovač a 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840" y="2008080"/>
            <a:ext cx="86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spoločného dopĺnania plánovača uda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riešenia testov z daného predmetu tvorené užívateľm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50:17Z</dcterms:created>
  <dc:creator>matej</dc:creator>
  <dc:description/>
  <dc:language>en-US</dc:language>
  <cp:lastModifiedBy>matej</cp:lastModifiedBy>
  <dcterms:modified xsi:type="dcterms:W3CDTF">2008-12-01T12:51:27Z</dcterms:modified>
  <cp:revision>2</cp:revision>
  <dc:subject/>
  <dc:title>E-learningová aplikácia  Matej Moravčík</dc:title>
</cp:coreProperties>
</file>